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4C9-D828-469B-8222-8F94F393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44D-58EB-49E3-885B-90D2FA5B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965-983D-46FA-9097-E861D999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965-F04F-4825-A349-DD2042E2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AC11-4495-4498-896B-DDF6A3D7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27A6-6C62-4581-8D46-05A4ED12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5747-8042-4CEC-B604-F771E2B3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CB0C-7DC7-4371-B3F7-4263F996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4676-270D-4263-BD74-F2E29C9E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7D5A-237B-4E07-B1E6-934FE7B8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F674-8239-4DBE-BC14-5067EEC0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A3A-AA24-470D-8ED8-1ACFE625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F4B5-9CF9-43BA-8147-A7913717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B568-0194-4962-B626-BAA538D5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FBAA-5595-4E44-8BA3-3311DF7A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8FB0-A6E8-464F-9A81-F60BD47A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7A8E-6912-4861-9627-0349074C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1D1D3-186D-48B5-9DF5-AEA8FF7B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00DB3-9249-48AD-9F26-B9005C1F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5699A-228F-4744-BDF0-07240D5C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22599-3D1E-451D-A1D4-AF7E1537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36F50-F6F4-407C-9742-59E1FD0F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175-0D65-4BA7-9CE6-16F6CEDF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1930C-7026-4AFC-9D11-E77C7A66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FD09B-834A-4FFF-93DA-E75E42A4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8A8D8-F254-4EF9-BE50-63FCEE68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6E977-0688-4F37-B169-34B3C4DA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ECEA5-2C41-4CAA-90EC-EB369317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6B098-1807-4274-8CA5-4EF91984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2E3E7-5AEF-4622-8575-7CF53081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AFB08-4A55-42C7-9855-332F3655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1AC4-9643-4FD0-B01B-5D060604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84AD-4F2A-459E-88CD-787C8056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72F-0E51-45AD-9669-9494E541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258F-1EE0-458D-AA1C-484C02E7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9311-4EEE-4FB0-9A62-2B9DC4D0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418B6-4D00-464E-82A0-90EBF72E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AC2D-D2A2-47EC-AE2C-3C781B76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1BC0-7803-4551-AE42-10E19CFC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ACC89-DA60-4891-86F8-7EA00CE0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042C4-CC6A-4EFF-9A72-9ECE0063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D27B9-6FE5-4DF1-BAAA-633653F8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C396-14F8-4799-B648-29E37404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82800-97D0-4FD2-8AC3-A29D2ACC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303-FED5-4472-80D7-CB2528D3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73CED-7904-44BA-B9D2-89DEC056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D81AC-2CE4-46B8-9C05-717C49FC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02E9D-2584-4440-AE34-82FA43AF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FF3F6-A23D-4824-989F-19939FD3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CD30F-4FB3-4B43-A531-3B56AA83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594AF-5F11-4A15-9301-0B03B73D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0097C-B6A6-4CBE-A86C-AE8100F2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6EB13-9326-4E76-92E5-DCDDCF80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4DCD4-1B1D-4D1A-8010-0F4100CF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DB8DA-2EFE-40CE-8D7F-883B6C0D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9D3-253D-4BBE-A925-25F3FAAC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036AB-D540-49D1-9592-CAD5DD09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285B3-D1AF-4FE9-8626-2E6A10E1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0C47D-A1AF-4DED-9579-13CB9680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AA2A6-A6BB-4892-988F-350809A3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B40DD-0715-429E-85DD-F8A53973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BC5A7-1A88-4022-BB98-AC0CCE12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185FE-4811-4DE7-9199-E9FB1F7C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D6478-1D7C-475E-88E0-8861E384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9D3554-44A4-4954-9E65-E5694CA9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98F5B-17D8-4382-8D52-971EDAE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69D-7236-43D8-BFB3-6C2947BA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660FD-01DA-4834-AA7F-FD54B6E0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F812B-8959-4CB7-8EE1-4A40753A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CE43D-C083-4BCD-B0F8-76243147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F47A6-466B-4A54-B350-6A22A51B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46141-18FD-4FDD-9612-2CBA07C5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F94DD-BE76-44F0-8A31-4EC6901E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E8EF08-63BB-4285-8C37-08CA783C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CFA7A6-5B88-460C-858B-7E825033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4932F8-5F7C-4885-84D4-A3E22EB8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F8369-B419-4453-B0E2-13845B54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4A3-0D97-4D4B-9C21-4D230B9D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1807A-3669-45F3-A235-7AA81698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3F252-CA76-4AE0-84D4-938A5061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0B23C-F04A-4A03-BAD4-EE27E4FA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3B4B0-E26B-4E12-8433-42393A6A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38600-ECFC-40E4-90BB-F6609ECA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9FB-8332-488A-B0CD-6CC13F65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F04D-1E70-4E0C-A0CC-F170B64C24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4BD0-7EA1-4E99-B6A0-E2C790B259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E0DA-5F1A-43E6-AA6E-592A7C6F86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40C1-B50F-4E26-9127-6E20C6E3B4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ED94-063C-4046-B532-604E35FA86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3A5A-8C92-43F9-8A80-3F41DF6605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02C9-435C-49D0-887B-D092A40175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4"/>
          <p:cNvSpPr txBox="1"/>
          <p:nvPr/>
        </p:nvSpPr>
        <p:spPr>
          <a:xfrm>
            <a:off x="1752480" y="2438280"/>
            <a:ext cx="5410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Bodoni MT Black"/>
              </a:rPr>
              <a:t>MINE LIFE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962160" cy="198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3657600" cy="19810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5"/>
          <p:cNvSpPr/>
          <p:nvPr/>
        </p:nvSpPr>
        <p:spPr>
          <a:xfrm>
            <a:off x="957600" y="3826440"/>
            <a:ext cx="738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ur innovative products have made major advancements in mining contr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d autom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 provide user-friendly systems, enabling higher operating efficiency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creased prod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MC designs, manufactures and commissions the electrical system fr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rt to finis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Bodoni MT Black"/>
              </a:rPr>
              <a:t>PHOSPHATE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5f6d"/>
                </a:solidFill>
                <a:latin typeface="Bodoni MT Black"/>
              </a:rPr>
              <a:t>COST OF MINING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cost of </a:t>
            </a: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phosphate is about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43.0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572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65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Bodoni MT Black"/>
              </a:rPr>
              <a:t>MINE LIFE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2471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3429000" cy="24386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5"/>
          <p:cNvSpPr/>
          <p:nvPr/>
        </p:nvSpPr>
        <p:spPr>
          <a:xfrm>
            <a:off x="7200" y="4238640"/>
            <a:ext cx="913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chanism for mining phosphates nodules from the dee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bottom including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redge nets tied to a long endless rope suspended from both sides of a ship, the r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ing from one side of the ship to the deep sea-bottom with appar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provided to pull the r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from to another side of the ship, whereby phosphates nodul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collected by the dredge n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9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WordArt 4"/>
          <p:cNvSpPr txBox="1"/>
          <p:nvPr/>
        </p:nvSpPr>
        <p:spPr>
          <a:xfrm>
            <a:off x="1981080" y="1828800"/>
            <a:ext cx="48769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End!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8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Bodoni MT Black"/>
              </a:rPr>
              <a:t>PREPARED BY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59984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Leynette Joy Lepaopa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Juan Antonio Fabriga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Ariane Jade Salvado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Down Ribbon 3"/>
          <p:cNvSpPr/>
          <p:nvPr/>
        </p:nvSpPr>
        <p:spPr>
          <a:xfrm>
            <a:off x="228600" y="5029200"/>
            <a:ext cx="8001000" cy="129528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21564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e4ad6"/>
                </a:solidFill>
                <a:latin typeface="Bodoni MT Black"/>
              </a:rPr>
              <a:t>THANK YOU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iley Face 4"/>
          <p:cNvSpPr/>
          <p:nvPr/>
        </p:nvSpPr>
        <p:spPr>
          <a:xfrm>
            <a:off x="6477120" y="304920"/>
            <a:ext cx="1981080" cy="1828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6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8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5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657600" cy="233532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6" descr=""/>
          <p:cNvPicPr/>
          <p:nvPr/>
        </p:nvPicPr>
        <p:blipFill>
          <a:blip r:embed="rId2"/>
          <a:stretch/>
        </p:blipFill>
        <p:spPr>
          <a:xfrm>
            <a:off x="-12600" y="103320"/>
            <a:ext cx="5022720" cy="11523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7"/>
          <p:cNvSpPr/>
          <p:nvPr/>
        </p:nvSpPr>
        <p:spPr>
          <a:xfrm>
            <a:off x="457200" y="3276720"/>
            <a:ext cx="3429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doni MT Black"/>
              </a:rPr>
              <a:t>MANGANESE  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3"/>
          <a:stretch/>
        </p:blipFill>
        <p:spPr>
          <a:xfrm>
            <a:off x="4724280" y="1143000"/>
            <a:ext cx="4075200" cy="2765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9"/>
          <p:cNvSpPr/>
          <p:nvPr/>
        </p:nvSpPr>
        <p:spPr>
          <a:xfrm>
            <a:off x="4572000" y="304920"/>
            <a:ext cx="41911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10" descr=""/>
          <p:cNvPicPr/>
          <p:nvPr/>
        </p:nvPicPr>
        <p:blipFill>
          <a:blip r:embed="rId4"/>
          <a:stretch/>
        </p:blipFill>
        <p:spPr>
          <a:xfrm>
            <a:off x="4359240" y="103320"/>
            <a:ext cx="5070600" cy="1152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5"/>
          <a:stretch/>
        </p:blipFill>
        <p:spPr>
          <a:xfrm>
            <a:off x="1905120" y="4648320"/>
            <a:ext cx="4724280" cy="22096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2"/>
          <p:cNvSpPr/>
          <p:nvPr/>
        </p:nvSpPr>
        <p:spPr>
          <a:xfrm>
            <a:off x="5029200" y="3200400"/>
            <a:ext cx="3048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Bodoni MT Black"/>
              </a:rPr>
              <a:t>COAL</a:t>
            </a: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Bodoni MT Black"/>
              </a:rPr>
              <a:t>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15" descr=""/>
          <p:cNvPicPr/>
          <p:nvPr/>
        </p:nvPicPr>
        <p:blipFill>
          <a:blip r:embed="rId6"/>
          <a:stretch/>
        </p:blipFill>
        <p:spPr>
          <a:xfrm>
            <a:off x="1695600" y="3456000"/>
            <a:ext cx="5070240" cy="11523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6"/>
          <p:cNvSpPr/>
          <p:nvPr/>
        </p:nvSpPr>
        <p:spPr>
          <a:xfrm>
            <a:off x="2286000" y="6248520"/>
            <a:ext cx="38862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doni MT Black"/>
              </a:rPr>
              <a:t>PHOSPHATE 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9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Bodoni MT Black"/>
              </a:rPr>
              <a:t>MANGANESE MINING</a:t>
            </a:r>
            <a:br>
              <a:rPr sz="36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324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17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7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5f6d"/>
                </a:solidFill>
                <a:latin typeface="Bodoni MT Black"/>
              </a:rPr>
              <a:t>MANGANESE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Manganese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is a chemical element, designated by the symbol </a:t>
            </a: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Mn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. It has the atomic number 25. It is found as a free element in nature (often in combination with iron), and in many minerals. As a free element, manganese is a metal with important industrial metal alloy uses, particularly in stainless steel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0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21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21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500" autoRev="1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Bodoni MT Black"/>
              </a:rPr>
              <a:t>COST OF MIN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3.99 dollars is the cost in pounds for manganese</a:t>
            </a:r>
            <a:r>
              <a:rPr b="1" lang="en-US" sz="4400" spc="-1" strike="noStrike">
                <a:solidFill>
                  <a:srgbClr val="ff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51814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5f6d"/>
                </a:solidFill>
                <a:latin typeface="Bodoni MT Black"/>
              </a:rPr>
              <a:t>MINE LIFE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1143000" y="3886920"/>
            <a:ext cx="66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wana is a truck and shovel operation executed in open p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34720" y="4190760"/>
            <a:ext cx="850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cks from the mine deliver ore either directly to the crusher feed hopper or in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t capacity 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hopper for further size redu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67920" y="5028840"/>
            <a:ext cx="876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ject area is not pristine due to the impacts from tree felling, charcoal burn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 and burn agricultur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 exploration activities. The soils of the area are typical of those foun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tropical regions, being heavily leached, low in nutrients and of poor fert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60" dur="123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61" dur="123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6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63" dur="123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575f6d"/>
                </a:solidFill>
                <a:latin typeface="Bodoni MT Black"/>
              </a:rPr>
              <a:t>COAL</a:t>
            </a:r>
            <a:br>
              <a:rPr sz="5900"/>
            </a:b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5f6d"/>
                </a:solidFill>
                <a:latin typeface="Bodoni MT Black"/>
              </a:rPr>
              <a:t>COAL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al is a combustible black or brownish-black sedimentary rock composed mostly of carbon and hydrocarbons. It is the most abundant fossil fuel produced in the United States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Bodoni MT Black"/>
              </a:rPr>
              <a:t>COST OF MIN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pending on the quality 38 cents to $1.08.Coal is about 45 cents a pou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5790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05:21:05Z</dcterms:created>
  <dc:creator>-tadzspeed04-</dc:creator>
  <dc:description/>
  <dc:language>en-US</dc:language>
  <cp:lastModifiedBy>*</cp:lastModifiedBy>
  <dcterms:modified xsi:type="dcterms:W3CDTF">2003-02-04T21:26:48Z</dcterms:modified>
  <cp:revision>12</cp:revision>
  <dc:subject/>
  <dc:title>Manganese Mining </dc:title>
</cp:coreProperties>
</file>